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C8D5-D7FB-4765-80E6-05FF474D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CF5E-6583-493C-A276-799B4FE9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4568-11FE-49FD-B620-D741ACA4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6270-84A3-4FB0-ADAB-865C849A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A579-8F15-4590-9B3C-05C02385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3028-AF6D-4ECA-9CA9-413DD539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70DC-0D19-42C6-B2BF-7F0514B1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96E1-6DAC-4C15-AC95-FBB74BBF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2C60-6278-450F-A23C-42EFAF1A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4500-7B74-482F-B69D-9275EACF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DF63-05A1-4AD9-B3D7-1D9D4AA2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2C9B-F141-4654-812D-1C678FB0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5326-8185-414D-A24F-4089F749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42D2-3656-433F-96F7-10E0946F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E033-7EBF-44C3-8377-84ADC2C0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F028-318E-4A87-AD4B-8480F848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B282-ABD6-4D07-8358-0687AE93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5BFA6-7740-4E48-B927-432D5454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F246EA-08A7-4095-BC1F-CC9E7E1E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AEE8ED-2EC7-46D1-ACEA-7237D23E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1B96C9-7C2E-4685-9863-29FD06FF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78FBC-96F0-45A4-BE0D-2D7EEC69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387E-BC52-4C08-AA8B-8A5974E3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F72077-92D8-4613-89EA-13A8A83C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87E976-B2B5-475D-A85A-9691B965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692C53-37B5-4C95-92A1-12A90F1F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ED8B59-D6D4-42D8-915B-0172EAF4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655E94-69E6-47DC-829D-D2FFD8A3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A9C010-AC58-4A48-B380-91C34AC5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6C431B-17D2-46C4-8DD7-FF71F90B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08D83-5134-42DA-A684-B2405836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6399B-E749-4580-8380-7CB32D3C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C6F1B-88E4-4260-A2A5-2306CAEB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6842-E634-4818-A6DF-CAF6953C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81B12-AF0B-41CA-A22F-7BE3636B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D65E0-6CE1-45C7-A945-345B0D34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FD9D9-71EA-4F38-BC3E-7F88897E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7C13C-562D-4EE1-BE34-DBE91CC6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05321-B7C2-4894-9913-D7B8460F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3FFD9-FD7F-420C-B25C-5FDA7896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29CBD-2C6F-4CDC-9D50-27D4A5AD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951DE-45A0-447F-8AC1-03DED2BC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0A226-58D3-407F-877B-FF674A50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88C8D7-A74F-4F04-BC27-095D15C8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682F-997A-46DF-8DB0-A22693B0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06A724-A4A4-4A61-BB42-64EE8A10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71124F-0542-42A2-AB56-49E51DA5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24710C-6E26-4A85-80C3-18AA2094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4F34CF-C740-423C-9B91-CE9F17C3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30CDF8-177A-49AB-B9CC-9CDED510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A0B39F-2C27-4140-A8BF-8BE0CA35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7BE0E5-7C85-401F-8FE3-86AEE74B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0DFCF6-2664-4720-A202-82E9CCBC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0D9915-89FE-4C23-AD07-4E99A4D7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74E690-957F-4944-9DF2-BD4EBCB0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DC0B-1C92-4FD0-8A28-24E8D53B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4971D7-7C9C-41DC-8DE8-657F918F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84A49-1A4E-433D-892A-D4F1BA9C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2C3BB-BB4A-403E-99F2-C7EB058C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E3045-C113-4F33-92FC-CD0EB34A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3BA6A-EF5C-4927-92F7-22D09276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E4563-7E1B-4A52-AC66-6087EA5B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EAB06-E419-4682-9698-CBC94D35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9FA01-523E-40A2-BC12-39E8A251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13ECC-5241-452A-88E9-3A584A5A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D5515-34CB-46A1-81D6-7C60D706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1950-9EF3-4C1B-AB49-A55ADCA6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9E61A-15F5-4C8C-8CB2-95C6CD17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20B77-3FA6-4A4A-9346-6F41AD0C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111A8-C9A0-410B-B2CE-EE06F523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FFBE-09AC-4449-9071-485ECFF3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F807-F0B4-482B-A2D6-96ED76EF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A59D-8F80-45A7-9C58-08564616D5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FF1B-14F4-492C-8C4F-A1BF23A97F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8E50-8A76-40FD-9C74-4CA7AD25EB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0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7070-A39A-4D87-9941-845062DE61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292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0D00-85E3-4716-82CA-0EC10BBD48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549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1B94-FFAC-4CFF-A14A-C04D509B37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2666880" y="99072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ff"/>
                </a:solidFill>
                <a:latin typeface="Arial"/>
              </a:rPr>
              <a:t>Las Comidas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429000" y="4114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Abbie Kan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ara el Desayuno</a:t>
            </a:r>
            <a:br>
              <a:rPr sz="4000"/>
            </a:br>
            <a:r>
              <a:rPr b="0" lang="en-US" sz="1800" spc="-1" strike="noStrike">
                <a:solidFill>
                  <a:srgbClr val="f7d47d"/>
                </a:solidFill>
                <a:latin typeface="Arial"/>
              </a:rPr>
              <a:t>Me gusta comer y beber: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1822680" cy="194292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0" y="327672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Los Panqueques de Chocolat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2971800" y="1600200"/>
            <a:ext cx="2076480" cy="138276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3200400" y="32004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El Tocin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3"/>
          <a:stretch/>
        </p:blipFill>
        <p:spPr>
          <a:xfrm>
            <a:off x="5715000" y="1447920"/>
            <a:ext cx="1828800" cy="157932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5715000" y="3124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Los Hueve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4"/>
          <a:stretch/>
        </p:blipFill>
        <p:spPr>
          <a:xfrm>
            <a:off x="380880" y="3733920"/>
            <a:ext cx="1828800" cy="175716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0" y="56386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El Zumo de Naranj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ara el Almuerzo</a:t>
            </a:r>
            <a:br>
              <a:rPr sz="44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e gusta comer y beber: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1247760" cy="182880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/>
          <p:nvPr/>
        </p:nvSpPr>
        <p:spPr>
          <a:xfrm>
            <a:off x="0" y="31240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arrones con ques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2"/>
          <a:stretch/>
        </p:blipFill>
        <p:spPr>
          <a:xfrm>
            <a:off x="2819520" y="1523880"/>
            <a:ext cx="1904760" cy="142740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3048120" y="3040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sandi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3"/>
          <a:stretch/>
        </p:blipFill>
        <p:spPr>
          <a:xfrm>
            <a:off x="5715000" y="1523880"/>
            <a:ext cx="2209680" cy="141624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>
            <a:off x="594360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bocadill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4"/>
          <a:stretch/>
        </p:blipFill>
        <p:spPr>
          <a:xfrm>
            <a:off x="228600" y="3733920"/>
            <a:ext cx="1752480" cy="156024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/>
          <p:nvPr/>
        </p:nvSpPr>
        <p:spPr>
          <a:xfrm>
            <a:off x="45720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limonad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 el Cena</a:t>
            </a:r>
            <a:br>
              <a:rPr sz="44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Me gusta comer y beber: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2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1981080" cy="1550880"/>
          </a:xfrm>
          <a:prstGeom prst="rect">
            <a:avLst/>
          </a:prstGeom>
          <a:ln w="0">
            <a:noFill/>
          </a:ln>
        </p:spPr>
      </p:pic>
      <p:sp>
        <p:nvSpPr>
          <p:cNvPr id="827" name=""/>
          <p:cNvSpPr/>
          <p:nvPr/>
        </p:nvSpPr>
        <p:spPr>
          <a:xfrm>
            <a:off x="228600" y="3048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biftec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2"/>
          <a:stretch/>
        </p:blipFill>
        <p:spPr>
          <a:xfrm>
            <a:off x="2743200" y="1447920"/>
            <a:ext cx="1828800" cy="141264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2743200" y="2971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arroz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2924280" cy="156204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5638680" y="3048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ensalad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4"/>
          <a:stretch/>
        </p:blipFill>
        <p:spPr>
          <a:xfrm>
            <a:off x="228600" y="3581280"/>
            <a:ext cx="1905120" cy="177012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304920" y="5410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lec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6:48:25Z</dcterms:created>
  <dc:creator>kaneabi</dc:creator>
  <dc:description/>
  <dc:language>en-US</dc:language>
  <cp:lastModifiedBy>kaneabi</cp:lastModifiedBy>
  <dcterms:modified xsi:type="dcterms:W3CDTF">2012-04-05T17:12:36Z</dcterms:modified>
  <cp:revision>8</cp:revision>
  <dc:subject/>
  <dc:title>Slide 1</dc:title>
</cp:coreProperties>
</file>